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362A-395D-49E9-9054-E607D33E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7E30-D494-4F2F-AF6C-6AF6A50F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44AD-9633-4CA4-91B1-7BB44F61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10FA-C5E6-4D7E-80E8-E3E2AC71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156F-9D48-48B4-B2B5-44C1F561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85FB-BAC2-4999-B46B-9871E039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6AD5-30A1-4E8E-9626-D70EA092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9B0E-780B-4FC7-9285-C8035D8F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F0CF-9020-443A-B71C-F0BC8B52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648D-2175-49FA-AA40-685A0355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358C-C6B2-44CC-A364-72FAA1CB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475E-A0BC-4F50-B4A9-81038DCB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92AC-E22E-4D77-B11B-8E1B8E499585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Gerade Verbindung 203"/>
          <p:cNvSpPr/>
          <p:nvPr/>
        </p:nvSpPr>
        <p:spPr>
          <a:xfrm>
            <a:off x="5616720" y="682560"/>
            <a:ext cx="0" cy="542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06280" y="6259680"/>
          <a:ext cx="9082080" cy="507960"/>
        </p:xfrm>
        <a:graphic>
          <a:graphicData uri="http://schemas.openxmlformats.org/drawingml/2006/table">
            <a:tbl>
              <a:tblPr/>
              <a:tblGrid>
                <a:gridCol w="1285920"/>
                <a:gridCol w="3394080"/>
                <a:gridCol w="3576600"/>
                <a:gridCol w="825480"/>
              </a:tblGrid>
              <a:tr h="50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-factory – Informatik begreifen</a:t>
                      </a:r>
                      <a:br>
                        <a:rPr sz="800"/>
                      </a:b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ww.verkehrshaus.ch/schuldienst</a:t>
                      </a:r>
                      <a:br>
                        <a:rPr sz="800"/>
                      </a:b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kehrshaus der Schwei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r" pos="1963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r" pos="1963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04.2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r" pos="1963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r" pos="1963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ite 1 / 1</a:t>
                      </a: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Objekt 129"/>
          <p:cNvGraphicFramePr/>
          <p:nvPr/>
        </p:nvGraphicFramePr>
        <p:xfrm>
          <a:off x="208080" y="6254640"/>
          <a:ext cx="1085760" cy="37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kt 1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6254640"/>
                    <a:ext cx="10857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Picture 1" descr="Logo_PHZ_Schwyz_mv"/>
          <p:cNvPicPr/>
          <p:nvPr/>
        </p:nvPicPr>
        <p:blipFill>
          <a:blip r:embed="rId3"/>
          <a:stretch/>
        </p:blipFill>
        <p:spPr>
          <a:xfrm>
            <a:off x="4635360" y="6259680"/>
            <a:ext cx="1695600" cy="371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logo_verkehrshaus"/>
          <p:cNvPicPr/>
          <p:nvPr/>
        </p:nvPicPr>
        <p:blipFill>
          <a:blip r:embed="rId4"/>
          <a:stretch/>
        </p:blipFill>
        <p:spPr>
          <a:xfrm>
            <a:off x="7666200" y="169920"/>
            <a:ext cx="1763640" cy="1386000"/>
          </a:xfrm>
          <a:prstGeom prst="rect">
            <a:avLst/>
          </a:prstGeom>
          <a:ln w="0">
            <a:noFill/>
          </a:ln>
        </p:spPr>
      </p:pic>
      <p:sp>
        <p:nvSpPr>
          <p:cNvPr id="47" name="Rechteck 132"/>
          <p:cNvSpPr/>
          <p:nvPr/>
        </p:nvSpPr>
        <p:spPr>
          <a:xfrm>
            <a:off x="250920" y="744480"/>
            <a:ext cx="24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92d050"/>
                </a:solidFill>
                <a:latin typeface="Calibri"/>
              </a:rPr>
              <a:t>C5 – Spielfe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133"/>
          <p:cNvSpPr/>
          <p:nvPr/>
        </p:nvSpPr>
        <p:spPr>
          <a:xfrm>
            <a:off x="250920" y="190440"/>
            <a:ext cx="189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000000"/>
                </a:solidFill>
                <a:latin typeface="Calibri"/>
              </a:rPr>
              <a:t>i-factory – Informatik begreif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Calibri"/>
              </a:rPr>
              <a:t>Arbeitsblatt für SchülerInnen</a:t>
            </a:r>
            <a:br>
              <a:rPr sz="1000"/>
            </a:br>
            <a:r>
              <a:rPr b="0" lang="de-CH" sz="1000" spc="-1" strike="noStrike">
                <a:solidFill>
                  <a:srgbClr val="000000"/>
                </a:solidFill>
                <a:latin typeface="Calibri"/>
              </a:rPr>
              <a:t>5 – 13. Schuljah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Gerade Verbindung 167"/>
          <p:cNvSpPr/>
          <p:nvPr/>
        </p:nvSpPr>
        <p:spPr>
          <a:xfrm>
            <a:off x="2370240" y="1739880"/>
            <a:ext cx="541656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Gerade Verbindung 169"/>
          <p:cNvSpPr/>
          <p:nvPr/>
        </p:nvSpPr>
        <p:spPr>
          <a:xfrm>
            <a:off x="2390760" y="3921120"/>
            <a:ext cx="538308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Gerade Verbindung 171"/>
          <p:cNvSpPr/>
          <p:nvPr/>
        </p:nvSpPr>
        <p:spPr>
          <a:xfrm>
            <a:off x="2390760" y="2827440"/>
            <a:ext cx="5383080" cy="1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Gerade Verbindung 173"/>
          <p:cNvSpPr/>
          <p:nvPr/>
        </p:nvSpPr>
        <p:spPr>
          <a:xfrm>
            <a:off x="3459240" y="682560"/>
            <a:ext cx="0" cy="542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Gerade Verbindung 174"/>
          <p:cNvSpPr/>
          <p:nvPr/>
        </p:nvSpPr>
        <p:spPr>
          <a:xfrm>
            <a:off x="4538520" y="682560"/>
            <a:ext cx="0" cy="542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Gerade Verbindung 175"/>
          <p:cNvSpPr/>
          <p:nvPr/>
        </p:nvSpPr>
        <p:spPr>
          <a:xfrm>
            <a:off x="6718320" y="682560"/>
            <a:ext cx="0" cy="544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Gerade Verbindung 178"/>
          <p:cNvSpPr/>
          <p:nvPr/>
        </p:nvSpPr>
        <p:spPr>
          <a:xfrm>
            <a:off x="2390760" y="5006880"/>
            <a:ext cx="5388120" cy="2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hteck 15"/>
          <p:cNvSpPr/>
          <p:nvPr/>
        </p:nvSpPr>
        <p:spPr>
          <a:xfrm>
            <a:off x="2376360" y="682560"/>
            <a:ext cx="5397480" cy="542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2:33:04Z</dcterms:created>
  <dc:creator>user</dc:creator>
  <dc:description/>
  <dc:language>en-US</dc:language>
  <cp:lastModifiedBy>user</cp:lastModifiedBy>
  <cp:lastPrinted>2011-04-21T13:16:32Z</cp:lastPrinted>
  <dcterms:modified xsi:type="dcterms:W3CDTF">2011-05-05T12:07:09Z</dcterms:modified>
  <cp:revision>13</cp:revision>
  <dc:subject/>
  <dc:title>PowerPoint-Präsentation</dc:title>
</cp:coreProperties>
</file>