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085480" y="752040"/>
            <a:ext cx="256860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6BFFA63F-0EA2-4F10-810B-94FA6C85B1BC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03DF63ED-3D1D-4B77-90E8-5BC7FC6ACA1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085840" y="752400"/>
            <a:ext cx="2570400" cy="371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4F-BFE6-4BAB-95E0-BD94956C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3120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B2A-910A-4717-93CA-633F56F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54F-97CE-4F09-B2F5-DF05532B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31732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731200"/>
            <a:ext cx="19861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098-F51C-4580-8E01-3F426018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1DF-BC62-467B-A97F-49C86A4C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9D9-AAD4-47ED-A141-76792D3D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856-7B95-4D83-8DAD-A063860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CD3-07CE-4A9D-9C22-BF427DCF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95280"/>
            <a:ext cx="61689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5E6-697D-4657-8AEB-5FF261D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410-460E-4FA5-BDEC-95156DC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73120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AE6-DE9F-4EA5-AB6F-43B3DDA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317320"/>
            <a:ext cx="30103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31200"/>
            <a:ext cx="616896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E71-DA7C-4047-BA22-3432010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7320"/>
            <a:ext cx="61689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3400"/>
            <a:ext cx="15951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6480" y="9023400"/>
            <a:ext cx="21715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520" y="9023400"/>
            <a:ext cx="15955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38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6CDB501D-59D3-40EF-B354-4C71462F6CA7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logo_verkehrshaus"/>
          <p:cNvPicPr/>
          <p:nvPr/>
        </p:nvPicPr>
        <p:blipFill>
          <a:blip r:embed="rId1"/>
          <a:stretch/>
        </p:blipFill>
        <p:spPr>
          <a:xfrm>
            <a:off x="4971960" y="171360"/>
            <a:ext cx="1763640" cy="1386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747720" y="81756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612800" y="81630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712960" y="819468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546360" y="819468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564080" y="817416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5445000" y="816120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719280" y="6999120"/>
            <a:ext cx="1617480" cy="731520"/>
            <a:chOff x="719280" y="6999120"/>
            <a:chExt cx="1617480" cy="731520"/>
          </a:xfrm>
        </p:grpSpPr>
        <p:sp>
          <p:nvSpPr>
            <p:cNvPr id="56" name="AutoShape 10"/>
            <p:cNvSpPr/>
            <p:nvPr/>
          </p:nvSpPr>
          <p:spPr>
            <a:xfrm>
              <a:off x="71928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54800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2678040" y="6999120"/>
            <a:ext cx="1617480" cy="731520"/>
            <a:chOff x="2678040" y="6999120"/>
            <a:chExt cx="1617480" cy="731520"/>
          </a:xfrm>
        </p:grpSpPr>
        <p:sp>
          <p:nvSpPr>
            <p:cNvPr id="59" name="AutoShape 13"/>
            <p:cNvSpPr/>
            <p:nvPr/>
          </p:nvSpPr>
          <p:spPr>
            <a:xfrm>
              <a:off x="267804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350496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4549680" y="6999120"/>
            <a:ext cx="1617480" cy="731520"/>
            <a:chOff x="4549680" y="6999120"/>
            <a:chExt cx="1617480" cy="731520"/>
          </a:xfrm>
        </p:grpSpPr>
        <p:sp>
          <p:nvSpPr>
            <p:cNvPr id="62" name="AutoShape 16"/>
            <p:cNvSpPr/>
            <p:nvPr/>
          </p:nvSpPr>
          <p:spPr>
            <a:xfrm>
              <a:off x="4549680" y="6999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5378040" y="7012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8"/>
          <p:cNvGrpSpPr/>
          <p:nvPr/>
        </p:nvGrpSpPr>
        <p:grpSpPr>
          <a:xfrm>
            <a:off x="733320" y="5877000"/>
            <a:ext cx="1617480" cy="731880"/>
            <a:chOff x="733320" y="5877000"/>
            <a:chExt cx="1617480" cy="731880"/>
          </a:xfrm>
        </p:grpSpPr>
        <p:sp>
          <p:nvSpPr>
            <p:cNvPr id="65" name="AutoShape 19"/>
            <p:cNvSpPr/>
            <p:nvPr/>
          </p:nvSpPr>
          <p:spPr>
            <a:xfrm>
              <a:off x="73332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56168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1"/>
          <p:cNvGrpSpPr/>
          <p:nvPr/>
        </p:nvGrpSpPr>
        <p:grpSpPr>
          <a:xfrm>
            <a:off x="2678040" y="5877000"/>
            <a:ext cx="1617480" cy="731880"/>
            <a:chOff x="2678040" y="5877000"/>
            <a:chExt cx="1617480" cy="731880"/>
          </a:xfrm>
        </p:grpSpPr>
        <p:sp>
          <p:nvSpPr>
            <p:cNvPr id="68" name="AutoShape 22"/>
            <p:cNvSpPr/>
            <p:nvPr/>
          </p:nvSpPr>
          <p:spPr>
            <a:xfrm>
              <a:off x="267804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50496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4"/>
          <p:cNvGrpSpPr/>
          <p:nvPr/>
        </p:nvGrpSpPr>
        <p:grpSpPr>
          <a:xfrm>
            <a:off x="4549680" y="5877000"/>
            <a:ext cx="1617480" cy="731880"/>
            <a:chOff x="4549680" y="5877000"/>
            <a:chExt cx="1617480" cy="731880"/>
          </a:xfrm>
        </p:grpSpPr>
        <p:sp>
          <p:nvSpPr>
            <p:cNvPr id="71" name="AutoShape 25"/>
            <p:cNvSpPr/>
            <p:nvPr/>
          </p:nvSpPr>
          <p:spPr>
            <a:xfrm>
              <a:off x="4549680" y="5877000"/>
              <a:ext cx="1617480" cy="7192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378040" y="5889600"/>
              <a:ext cx="0" cy="7192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7"/>
          <p:cNvGrpSpPr/>
          <p:nvPr/>
        </p:nvGrpSpPr>
        <p:grpSpPr>
          <a:xfrm>
            <a:off x="733320" y="4767120"/>
            <a:ext cx="1617480" cy="731520"/>
            <a:chOff x="733320" y="4767120"/>
            <a:chExt cx="1617480" cy="731520"/>
          </a:xfrm>
        </p:grpSpPr>
        <p:sp>
          <p:nvSpPr>
            <p:cNvPr id="74" name="AutoShape 28"/>
            <p:cNvSpPr/>
            <p:nvPr/>
          </p:nvSpPr>
          <p:spPr>
            <a:xfrm>
              <a:off x="73332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56168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0"/>
          <p:cNvGrpSpPr/>
          <p:nvPr/>
        </p:nvGrpSpPr>
        <p:grpSpPr>
          <a:xfrm>
            <a:off x="2678040" y="4767120"/>
            <a:ext cx="1617480" cy="731520"/>
            <a:chOff x="2678040" y="4767120"/>
            <a:chExt cx="1617480" cy="731520"/>
          </a:xfrm>
        </p:grpSpPr>
        <p:sp>
          <p:nvSpPr>
            <p:cNvPr id="77" name="AutoShape 31"/>
            <p:cNvSpPr/>
            <p:nvPr/>
          </p:nvSpPr>
          <p:spPr>
            <a:xfrm>
              <a:off x="267804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350496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3"/>
          <p:cNvGrpSpPr/>
          <p:nvPr/>
        </p:nvGrpSpPr>
        <p:grpSpPr>
          <a:xfrm>
            <a:off x="4549680" y="4767120"/>
            <a:ext cx="1617480" cy="731520"/>
            <a:chOff x="4549680" y="4767120"/>
            <a:chExt cx="1617480" cy="731520"/>
          </a:xfrm>
        </p:grpSpPr>
        <p:sp>
          <p:nvSpPr>
            <p:cNvPr id="80" name="AutoShape 34"/>
            <p:cNvSpPr/>
            <p:nvPr/>
          </p:nvSpPr>
          <p:spPr>
            <a:xfrm>
              <a:off x="4549680" y="476712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5378040" y="4780800"/>
              <a:ext cx="0" cy="71784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0"/>
          <p:cNvGrpSpPr/>
          <p:nvPr/>
        </p:nvGrpSpPr>
        <p:grpSpPr>
          <a:xfrm>
            <a:off x="1612800" y="3645000"/>
            <a:ext cx="1617480" cy="731520"/>
            <a:chOff x="1612800" y="3645000"/>
            <a:chExt cx="1617480" cy="731520"/>
          </a:xfrm>
        </p:grpSpPr>
        <p:sp>
          <p:nvSpPr>
            <p:cNvPr id="83" name="AutoShape 61"/>
            <p:cNvSpPr/>
            <p:nvPr/>
          </p:nvSpPr>
          <p:spPr>
            <a:xfrm>
              <a:off x="1612800" y="364500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2"/>
            <p:cNvSpPr/>
            <p:nvPr/>
          </p:nvSpPr>
          <p:spPr>
            <a:xfrm>
              <a:off x="2439720" y="365904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3"/>
          <p:cNvGrpSpPr/>
          <p:nvPr/>
        </p:nvGrpSpPr>
        <p:grpSpPr>
          <a:xfrm>
            <a:off x="3686040" y="3645000"/>
            <a:ext cx="1617480" cy="731520"/>
            <a:chOff x="3686040" y="3645000"/>
            <a:chExt cx="1617480" cy="731520"/>
          </a:xfrm>
        </p:grpSpPr>
        <p:sp>
          <p:nvSpPr>
            <p:cNvPr id="86" name="AutoShape 64"/>
            <p:cNvSpPr/>
            <p:nvPr/>
          </p:nvSpPr>
          <p:spPr>
            <a:xfrm>
              <a:off x="3686040" y="3645000"/>
              <a:ext cx="1617480" cy="71748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5"/>
            <p:cNvSpPr/>
            <p:nvPr/>
          </p:nvSpPr>
          <p:spPr>
            <a:xfrm>
              <a:off x="4512960" y="365904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6"/>
          <p:cNvGrpSpPr/>
          <p:nvPr/>
        </p:nvGrpSpPr>
        <p:grpSpPr>
          <a:xfrm>
            <a:off x="2649600" y="2522520"/>
            <a:ext cx="1617480" cy="731520"/>
            <a:chOff x="2649600" y="2522520"/>
            <a:chExt cx="1617480" cy="731520"/>
          </a:xfrm>
        </p:grpSpPr>
        <p:sp>
          <p:nvSpPr>
            <p:cNvPr id="89" name="AutoShape 67"/>
            <p:cNvSpPr/>
            <p:nvPr/>
          </p:nvSpPr>
          <p:spPr>
            <a:xfrm>
              <a:off x="2649600" y="2522520"/>
              <a:ext cx="1617480" cy="717840"/>
            </a:xfrm>
            <a:prstGeom prst="flowChartAlternateProcess">
              <a:avLst/>
            </a:prstGeom>
            <a:solidFill>
              <a:srgbClr val="ffffff"/>
            </a:solidFill>
            <a:ln w="36000">
              <a:solidFill>
                <a:srgbClr val="7bb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76320" bIns="6300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  <a:tab algn="l" pos="8934480"/>
                  <a:tab algn="l" pos="9360000"/>
                  <a:tab algn="l" pos="9785520"/>
                </a:tabLst>
              </a:pP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lang="de-CH" sz="1500" spc="-1" strike="noStrike">
                  <a:solidFill>
                    <a:srgbClr val="595959"/>
                  </a:solidFill>
                  <a:latin typeface="Arial"/>
                </a:rPr>
                <a:t>kleiner   grös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8"/>
            <p:cNvSpPr/>
            <p:nvPr/>
          </p:nvSpPr>
          <p:spPr>
            <a:xfrm>
              <a:off x="3476520" y="2536560"/>
              <a:ext cx="0" cy="717480"/>
            </a:xfrm>
            <a:prstGeom prst="line">
              <a:avLst/>
            </a:prstGeom>
            <a:ln w="36000">
              <a:solidFill>
                <a:srgbClr val="7bb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9"/>
          <p:cNvSpPr/>
          <p:nvPr/>
        </p:nvSpPr>
        <p:spPr>
          <a:xfrm>
            <a:off x="74772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0"/>
          <p:cNvSpPr/>
          <p:nvPr/>
        </p:nvSpPr>
        <p:spPr>
          <a:xfrm>
            <a:off x="168444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1"/>
          <p:cNvSpPr/>
          <p:nvPr/>
        </p:nvSpPr>
        <p:spPr>
          <a:xfrm>
            <a:off x="266400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2"/>
          <p:cNvSpPr/>
          <p:nvPr/>
        </p:nvSpPr>
        <p:spPr>
          <a:xfrm>
            <a:off x="359892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456408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4"/>
          <p:cNvSpPr/>
          <p:nvPr/>
        </p:nvSpPr>
        <p:spPr>
          <a:xfrm>
            <a:off x="5500800" y="1555920"/>
            <a:ext cx="720720" cy="720720"/>
          </a:xfrm>
          <a:prstGeom prst="flowChartAlternateProcess">
            <a:avLst/>
          </a:prstGeom>
          <a:solidFill>
            <a:srgbClr val="ffffff"/>
          </a:solidFill>
          <a:ln w="36000">
            <a:solidFill>
              <a:srgbClr val="7bb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5"/>
          <p:cNvSpPr/>
          <p:nvPr/>
        </p:nvSpPr>
        <p:spPr>
          <a:xfrm>
            <a:off x="1108080" y="4759200"/>
            <a:ext cx="90000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3052800" y="4759200"/>
            <a:ext cx="90000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7"/>
          <p:cNvSpPr/>
          <p:nvPr/>
        </p:nvSpPr>
        <p:spPr>
          <a:xfrm>
            <a:off x="4952880" y="4759200"/>
            <a:ext cx="900360" cy="180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8"/>
          <p:cNvSpPr/>
          <p:nvPr/>
        </p:nvSpPr>
        <p:spPr>
          <a:xfrm>
            <a:off x="2044800" y="3637080"/>
            <a:ext cx="755640" cy="144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4160880" y="3637080"/>
            <a:ext cx="755640" cy="1440"/>
          </a:xfrm>
          <a:prstGeom prst="line">
            <a:avLst/>
          </a:prstGeom>
          <a:ln w="9360">
            <a:solidFill>
              <a:srgbClr val="7bb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85"/>
          <p:cNvCxnSpPr>
            <a:stCxn id="97" idx="0"/>
            <a:endCxn id="91" idx="2"/>
          </p:cNvCxnSpPr>
          <p:nvPr/>
        </p:nvCxnSpPr>
        <p:spPr>
          <a:xfrm flipH="1" flipV="1">
            <a:off x="1108080" y="2276640"/>
            <a:ext cx="900000" cy="2484360"/>
          </a:xfrm>
          <a:prstGeom prst="curvedConnector4">
            <a:avLst>
              <a:gd name="adj1" fmla="val 0"/>
              <a:gd name="adj2" fmla="val 31043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3" name="AutoShape 86"/>
          <p:cNvCxnSpPr/>
          <p:nvPr/>
        </p:nvCxnSpPr>
        <p:spPr>
          <a:xfrm flipV="1">
            <a:off x="5853240" y="2274120"/>
            <a:ext cx="8640" cy="2485080"/>
          </a:xfrm>
          <a:prstGeom prst="curvedConnector5">
            <a:avLst>
              <a:gd name="adj1" fmla="val 47826"/>
              <a:gd name="adj2" fmla="val 50000"/>
              <a:gd name="adj3" fmla="val 4782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4" name="AutoShape 87"/>
          <p:cNvCxnSpPr>
            <a:stCxn id="100" idx="0"/>
            <a:endCxn id="92" idx="2"/>
          </p:cNvCxnSpPr>
          <p:nvPr/>
        </p:nvCxnSpPr>
        <p:spPr>
          <a:xfrm flipH="1" flipV="1">
            <a:off x="2044800" y="2276640"/>
            <a:ext cx="755280" cy="1361880"/>
          </a:xfrm>
          <a:prstGeom prst="curvedConnector4">
            <a:avLst>
              <a:gd name="adj1" fmla="val -47"/>
              <a:gd name="adj2" fmla="val 3085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5" name="AutoShape 88"/>
          <p:cNvCxnSpPr/>
          <p:nvPr/>
        </p:nvCxnSpPr>
        <p:spPr>
          <a:xfrm flipV="1">
            <a:off x="4916520" y="2274480"/>
            <a:ext cx="8640" cy="1360800"/>
          </a:xfrm>
          <a:prstGeom prst="curvedConnector5">
            <a:avLst>
              <a:gd name="adj1" fmla="val 47826"/>
              <a:gd name="adj2" fmla="val 49986"/>
              <a:gd name="adj3" fmla="val 47826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6" name="AutoShape 91"/>
          <p:cNvCxnSpPr>
            <a:endCxn id="93" idx="2"/>
          </p:cNvCxnSpPr>
          <p:nvPr/>
        </p:nvCxnSpPr>
        <p:spPr>
          <a:xfrm flipV="1" rot="16200000">
            <a:off x="2899800" y="2401200"/>
            <a:ext cx="253800" cy="4680"/>
          </a:xfrm>
          <a:prstGeom prst="curvedConnector3">
            <a:avLst>
              <a:gd name="adj1" fmla="val 19460"/>
            </a:avLst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cxnSp>
        <p:nvCxnSpPr>
          <p:cNvPr id="107" name="AutoShape 92"/>
          <p:cNvCxnSpPr>
            <a:endCxn id="94" idx="2"/>
          </p:cNvCxnSpPr>
          <p:nvPr/>
        </p:nvCxnSpPr>
        <p:spPr>
          <a:xfrm rot="16200000">
            <a:off x="3836520" y="2399400"/>
            <a:ext cx="245880" cy="360"/>
          </a:xfrm>
          <a:prstGeom prst="curvedConnector2">
            <a:avLst/>
          </a:prstGeom>
          <a:ln w="28440">
            <a:solidFill>
              <a:srgbClr val="7bb041"/>
            </a:solidFill>
            <a:miter/>
            <a:tailEnd len="med" type="triangle" w="med"/>
          </a:ln>
        </p:spPr>
      </p:cxnSp>
      <p:graphicFrame>
        <p:nvGraphicFramePr>
          <p:cNvPr id="108" name=""/>
          <p:cNvGraphicFramePr/>
          <p:nvPr/>
        </p:nvGraphicFramePr>
        <p:xfrm>
          <a:off x="189000" y="9274320"/>
          <a:ext cx="6399000" cy="527040"/>
        </p:xfrm>
        <a:graphic>
          <a:graphicData uri="http://schemas.openxmlformats.org/drawingml/2006/table">
            <a:tbl>
              <a:tblPr/>
              <a:tblGrid>
                <a:gridCol w="1439640"/>
                <a:gridCol w="1857600"/>
                <a:gridCol w="2519280"/>
                <a:gridCol w="58248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868320"/>
                          <a:tab algn="l" pos="173664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factory – Informatik begreifen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verkehrshaus.ch/schuldienst</a:t>
                      </a:r>
                      <a:br>
                        <a:rPr sz="800"/>
                      </a:b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ehrshaus der Schwei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4.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r" pos="1963800"/>
                          <a:tab algn="l" pos="2604960"/>
                          <a:tab algn="l" pos="3473280"/>
                          <a:tab algn="l" pos="4341960"/>
                          <a:tab algn="l" pos="5210280"/>
                          <a:tab algn="l" pos="6078600"/>
                          <a:tab algn="l" pos="6946920"/>
                          <a:tab algn="l" pos="7815240"/>
                          <a:tab algn="l" pos="8683560"/>
                          <a:tab algn="l" pos="9551880"/>
                          <a:tab algn="l" pos="10420200"/>
                        </a:tabLst>
                      </a:pPr>
                      <a:r>
                        <a:rPr b="0" lang="de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te 1 / 1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Objekt 290"/>
          <p:cNvGraphicFramePr/>
          <p:nvPr/>
        </p:nvGraphicFramePr>
        <p:xfrm>
          <a:off x="244440" y="9274320"/>
          <a:ext cx="1085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kt 29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9274320"/>
                    <a:ext cx="1085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1" descr="Logo_PHZ_Schwyz_mv"/>
          <p:cNvPicPr/>
          <p:nvPr/>
        </p:nvPicPr>
        <p:blipFill>
          <a:blip r:embed="rId4"/>
          <a:stretch/>
        </p:blipFill>
        <p:spPr>
          <a:xfrm>
            <a:off x="3589200" y="9274320"/>
            <a:ext cx="1695600" cy="371160"/>
          </a:xfrm>
          <a:prstGeom prst="rect">
            <a:avLst/>
          </a:prstGeom>
          <a:ln w="0">
            <a:noFill/>
          </a:ln>
        </p:spPr>
      </p:pic>
      <p:sp>
        <p:nvSpPr>
          <p:cNvPr id="112" name="Rechteck 293"/>
          <p:cNvSpPr/>
          <p:nvPr/>
        </p:nvSpPr>
        <p:spPr>
          <a:xfrm>
            <a:off x="108000" y="1000080"/>
            <a:ext cx="331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4 – Zahlensorti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eck 294"/>
          <p:cNvSpPr/>
          <p:nvPr/>
        </p:nvSpPr>
        <p:spPr>
          <a:xfrm>
            <a:off x="101520" y="320760"/>
            <a:ext cx="2436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krümmte Verbindung 9"/>
          <p:cNvCxnSpPr>
            <a:stCxn id="100" idx="1"/>
            <a:endCxn id="89" idx="2"/>
          </p:cNvCxnSpPr>
          <p:nvPr/>
        </p:nvCxnSpPr>
        <p:spPr>
          <a:xfrm flipV="1">
            <a:off x="2799720" y="3240360"/>
            <a:ext cx="659160" cy="398160"/>
          </a:xfrm>
          <a:prstGeom prst="curvedConnector2">
            <a:avLst/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5" name="Gekrümmte Verbindung 304"/>
          <p:cNvCxnSpPr/>
          <p:nvPr/>
        </p:nvCxnSpPr>
        <p:spPr>
          <a:xfrm flipH="1" flipV="1" rot="5400000">
            <a:off x="1912680" y="4247640"/>
            <a:ext cx="397440" cy="65808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6" name="Gekrümmte Verbindung 305"/>
          <p:cNvCxnSpPr/>
          <p:nvPr/>
        </p:nvCxnSpPr>
        <p:spPr>
          <a:xfrm flipV="1" rot="16200000">
            <a:off x="3597840" y="3106800"/>
            <a:ext cx="397440" cy="65952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7" name="Gekrümmte Verbindung 306"/>
          <p:cNvCxnSpPr/>
          <p:nvPr/>
        </p:nvCxnSpPr>
        <p:spPr>
          <a:xfrm flipV="1" rot="16200000">
            <a:off x="2572560" y="4233240"/>
            <a:ext cx="397800" cy="65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8" name="Gekrümmte Verbindung 307"/>
          <p:cNvCxnSpPr/>
          <p:nvPr/>
        </p:nvCxnSpPr>
        <p:spPr>
          <a:xfrm flipH="1" flipV="1" rot="5400000">
            <a:off x="3985920" y="4247640"/>
            <a:ext cx="397440" cy="658080"/>
          </a:xfrm>
          <a:prstGeom prst="curvedConnector5">
            <a:avLst>
              <a:gd name="adj1" fmla="val 49954"/>
              <a:gd name="adj2" fmla="val 49972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19" name="Gekrümmte Verbindung 308"/>
          <p:cNvCxnSpPr/>
          <p:nvPr/>
        </p:nvCxnSpPr>
        <p:spPr>
          <a:xfrm flipV="1" rot="16200000">
            <a:off x="4645800" y="4233240"/>
            <a:ext cx="397800" cy="65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0" name="Gekrümmte Verbindung 309"/>
          <p:cNvCxnSpPr/>
          <p:nvPr/>
        </p:nvCxnSpPr>
        <p:spPr>
          <a:xfrm flipH="1" flipV="1" rot="5400000">
            <a:off x="1194120" y="5512680"/>
            <a:ext cx="39780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1" name="Gekrümmte Verbindung 311"/>
          <p:cNvCxnSpPr/>
          <p:nvPr/>
        </p:nvCxnSpPr>
        <p:spPr>
          <a:xfrm flipH="1" flipV="1" rot="5400000">
            <a:off x="1181880" y="6628320"/>
            <a:ext cx="397440" cy="329040"/>
          </a:xfrm>
          <a:prstGeom prst="curvedConnector5">
            <a:avLst>
              <a:gd name="adj1" fmla="val 49954"/>
              <a:gd name="adj2" fmla="val 49945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2" name="Gekrümmte Verbindung 312"/>
          <p:cNvCxnSpPr>
            <a:stCxn id="49" idx="0"/>
            <a:endCxn id="56" idx="2"/>
          </p:cNvCxnSpPr>
          <p:nvPr/>
        </p:nvCxnSpPr>
        <p:spPr>
          <a:xfrm flipH="1" flipV="1" rot="5400000">
            <a:off x="1088280" y="7736040"/>
            <a:ext cx="459360" cy="420480"/>
          </a:xfrm>
          <a:prstGeom prst="curvedConnector3">
            <a:avLst>
              <a:gd name="adj1" fmla="val 24941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3" name="Gekrümmte Verbindung 316"/>
          <p:cNvCxnSpPr>
            <a:stCxn id="51" idx="0"/>
            <a:endCxn id="59" idx="2"/>
          </p:cNvCxnSpPr>
          <p:nvPr/>
        </p:nvCxnSpPr>
        <p:spPr>
          <a:xfrm flipH="1" flipV="1" rot="5400000">
            <a:off x="3040920" y="7749000"/>
            <a:ext cx="478440" cy="41400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4" name="Gekrümmte Verbindung 317"/>
          <p:cNvCxnSpPr>
            <a:stCxn id="53" idx="0"/>
            <a:endCxn id="62" idx="2"/>
          </p:cNvCxnSpPr>
          <p:nvPr/>
        </p:nvCxnSpPr>
        <p:spPr>
          <a:xfrm flipH="1" flipV="1" rot="5400000">
            <a:off x="4912560" y="7728120"/>
            <a:ext cx="457920" cy="434520"/>
          </a:xfrm>
          <a:prstGeom prst="curvedConnector3">
            <a:avLst>
              <a:gd name="adj1" fmla="val 2494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5" name="Gekrümmte Verbindung 322"/>
          <p:cNvCxnSpPr>
            <a:stCxn id="50" idx="0"/>
            <a:endCxn id="56" idx="2"/>
          </p:cNvCxnSpPr>
          <p:nvPr/>
        </p:nvCxnSpPr>
        <p:spPr>
          <a:xfrm flipV="1" rot="16200000">
            <a:off x="1527480" y="7717320"/>
            <a:ext cx="446760" cy="44532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6" name="Gekrümmte Verbindung 323"/>
          <p:cNvCxnSpPr>
            <a:stCxn id="52" idx="0"/>
            <a:endCxn id="59" idx="2"/>
          </p:cNvCxnSpPr>
          <p:nvPr/>
        </p:nvCxnSpPr>
        <p:spPr>
          <a:xfrm flipV="1" rot="16200000">
            <a:off x="3457800" y="7745760"/>
            <a:ext cx="478440" cy="420120"/>
          </a:xfrm>
          <a:prstGeom prst="curvedConnector3">
            <a:avLst>
              <a:gd name="adj1" fmla="val 25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7" name="Gekrümmte Verbindung 324"/>
          <p:cNvCxnSpPr>
            <a:stCxn id="54" idx="0"/>
            <a:endCxn id="62" idx="2"/>
          </p:cNvCxnSpPr>
          <p:nvPr/>
        </p:nvCxnSpPr>
        <p:spPr>
          <a:xfrm flipV="1" rot="16200000">
            <a:off x="5359680" y="7715160"/>
            <a:ext cx="444960" cy="447120"/>
          </a:xfrm>
          <a:prstGeom prst="curvedConnector3">
            <a:avLst>
              <a:gd name="adj1" fmla="val 24939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8" name="Gekrümmte Verbindung 343"/>
          <p:cNvCxnSpPr>
            <a:endCxn id="71" idx="2"/>
          </p:cNvCxnSpPr>
          <p:nvPr/>
        </p:nvCxnSpPr>
        <p:spPr>
          <a:xfrm flipV="1" rot="16200000">
            <a:off x="5337720" y="6617160"/>
            <a:ext cx="417600" cy="375480"/>
          </a:xfrm>
          <a:prstGeom prst="curvedConnector3">
            <a:avLst>
              <a:gd name="adj1" fmla="val 21742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29" name="Gekrümmte Verbindung 344"/>
          <p:cNvCxnSpPr>
            <a:endCxn id="80" idx="2"/>
          </p:cNvCxnSpPr>
          <p:nvPr/>
        </p:nvCxnSpPr>
        <p:spPr>
          <a:xfrm flipV="1" rot="16200000">
            <a:off x="5349600" y="5493600"/>
            <a:ext cx="392400" cy="374040"/>
          </a:xfrm>
          <a:prstGeom prst="curvedConnector3">
            <a:avLst>
              <a:gd name="adj1" fmla="val 21487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0" name="Gekrümmte Verbindung 349"/>
          <p:cNvCxnSpPr>
            <a:endCxn id="71" idx="2"/>
          </p:cNvCxnSpPr>
          <p:nvPr/>
        </p:nvCxnSpPr>
        <p:spPr>
          <a:xfrm flipH="1" flipV="1" rot="5400000">
            <a:off x="4445280" y="6076440"/>
            <a:ext cx="393840" cy="1433160"/>
          </a:xfrm>
          <a:prstGeom prst="curvedConnector3">
            <a:avLst>
              <a:gd name="adj1" fmla="val 215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1" name="Gekrümmte Verbindung 355"/>
          <p:cNvCxnSpPr>
            <a:endCxn id="65" idx="2"/>
          </p:cNvCxnSpPr>
          <p:nvPr/>
        </p:nvCxnSpPr>
        <p:spPr>
          <a:xfrm flipV="1" rot="16200000">
            <a:off x="2072160" y="6066360"/>
            <a:ext cx="416160" cy="1475640"/>
          </a:xfrm>
          <a:prstGeom prst="curvedConnector3">
            <a:avLst>
              <a:gd name="adj1" fmla="val 21731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2" name="Gekrümmte Verbindung 358"/>
          <p:cNvCxnSpPr/>
          <p:nvPr/>
        </p:nvCxnSpPr>
        <p:spPr>
          <a:xfrm flipV="1" rot="16200000">
            <a:off x="2113200" y="4943520"/>
            <a:ext cx="416520" cy="147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3" name="Gekrümmte Verbindung 359"/>
          <p:cNvCxnSpPr/>
          <p:nvPr/>
        </p:nvCxnSpPr>
        <p:spPr>
          <a:xfrm flipV="1" rot="16200000">
            <a:off x="4032360" y="4956120"/>
            <a:ext cx="416520" cy="147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4" name="Gekrümmte Verbindung 360"/>
          <p:cNvCxnSpPr/>
          <p:nvPr/>
        </p:nvCxnSpPr>
        <p:spPr>
          <a:xfrm flipH="1" flipV="1" rot="5400000">
            <a:off x="4460040" y="4953240"/>
            <a:ext cx="394200" cy="14342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5" name="Gekrümmte Verbindung 361"/>
          <p:cNvCxnSpPr/>
          <p:nvPr/>
        </p:nvCxnSpPr>
        <p:spPr>
          <a:xfrm flipH="1" flipV="1" rot="5400000">
            <a:off x="2581560" y="4963680"/>
            <a:ext cx="394560" cy="14324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6" name="Gekrümmte Verbindung 366"/>
          <p:cNvCxnSpPr/>
          <p:nvPr/>
        </p:nvCxnSpPr>
        <p:spPr>
          <a:xfrm flipH="1" flipV="1" rot="5400000">
            <a:off x="2585520" y="6079680"/>
            <a:ext cx="394560" cy="1432800"/>
          </a:xfrm>
          <a:prstGeom prst="curvedConnector5">
            <a:avLst>
              <a:gd name="adj1" fmla="val 49954"/>
              <a:gd name="adj2" fmla="val 49987"/>
              <a:gd name="adj3" fmla="val 49954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  <p:cxnSp>
        <p:nvCxnSpPr>
          <p:cNvPr id="137" name="Gekrümmte Verbindung 367"/>
          <p:cNvCxnSpPr/>
          <p:nvPr/>
        </p:nvCxnSpPr>
        <p:spPr>
          <a:xfrm flipV="1" rot="16200000">
            <a:off x="4073760" y="6066000"/>
            <a:ext cx="416880" cy="1475640"/>
          </a:xfrm>
          <a:prstGeom prst="curvedConnector5">
            <a:avLst>
              <a:gd name="adj1" fmla="val 49956"/>
              <a:gd name="adj2" fmla="val 50000"/>
              <a:gd name="adj3" fmla="val 49956"/>
            </a:avLst>
          </a:prstGeom>
          <a:ln w="19080">
            <a:solidFill>
              <a:srgbClr val="92d050"/>
            </a:solidFill>
            <a:miter/>
            <a:tailEnd len="med" type="triangle" w="lg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8T13:48:45Z</cp:lastPrinted>
  <dcterms:modified xsi:type="dcterms:W3CDTF">2011-04-28T14:29:52Z</dcterms:modified>
  <cp:revision>28</cp:revision>
  <dc:subject/>
  <dc:title>PowerPoint-Präsentation</dc:title>
</cp:coreProperties>
</file>