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38F4-37BF-4FE5-8A7F-304D6AD55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FFBB-81E7-4810-AC1F-9F90A6FEB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5C41-65DE-4767-9C64-E0B1407E9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2E59-23AD-43B1-9935-D4041F671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699A-C85E-4FF6-BAC1-D32C81435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D282-3147-4856-958B-C91BF1096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7599-CEB5-4623-AC4D-DA2045351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F1A2-29E1-4A4C-8A56-75DEB9D72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FBDC-BBEE-45AC-A8D4-918D0DC1B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4B8F-BD58-47D7-86AF-959617BDB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4C62-B3E2-46E2-A850-73BD9658D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4202-2AFA-4707-A9DB-9A4C054C3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C17B8-651B-47E2-BB30-B07174830053}" type="slidenum">
              <a:rPr b="0" lang="de-CH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Gerade Verbindung 203"/>
          <p:cNvSpPr/>
          <p:nvPr/>
        </p:nvSpPr>
        <p:spPr>
          <a:xfrm>
            <a:off x="5616720" y="682560"/>
            <a:ext cx="0" cy="5423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06280" y="6259680"/>
          <a:ext cx="9082080" cy="507960"/>
        </p:xfrm>
        <a:graphic>
          <a:graphicData uri="http://schemas.openxmlformats.org/drawingml/2006/table">
            <a:tbl>
              <a:tblPr/>
              <a:tblGrid>
                <a:gridCol w="1285920"/>
                <a:gridCol w="3394080"/>
                <a:gridCol w="3576600"/>
                <a:gridCol w="825480"/>
              </a:tblGrid>
              <a:tr h="507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-factory – Informatik begreifen</a:t>
                      </a:r>
                      <a:br>
                        <a:rPr sz="800"/>
                      </a:br>
                      <a:r>
                        <a:rPr b="0" lang="de-CH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ww.verkehrshaus.ch/schuldienst</a:t>
                      </a:r>
                      <a:br>
                        <a:rPr sz="800"/>
                      </a:br>
                      <a:r>
                        <a:rPr b="0" lang="de-CH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rkehrshaus der Schweiz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r" pos="1963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r" pos="1963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.04.20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r" pos="1963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r" pos="1963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ite 1 / 1</a:t>
                      </a:r>
                      <a:br>
                        <a:rPr sz="800"/>
                      </a:b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3" name="Objekt 129"/>
          <p:cNvGraphicFramePr/>
          <p:nvPr/>
        </p:nvGraphicFramePr>
        <p:xfrm>
          <a:off x="208080" y="6254640"/>
          <a:ext cx="1085760" cy="371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Objekt 1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8080" y="6254640"/>
                    <a:ext cx="1085760" cy="3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Picture 1" descr="Logo_PHZ_Schwyz_mv"/>
          <p:cNvPicPr/>
          <p:nvPr/>
        </p:nvPicPr>
        <p:blipFill>
          <a:blip r:embed="rId3"/>
          <a:stretch/>
        </p:blipFill>
        <p:spPr>
          <a:xfrm>
            <a:off x="4635360" y="6259680"/>
            <a:ext cx="1695600" cy="3711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logo_verkehrshaus"/>
          <p:cNvPicPr/>
          <p:nvPr/>
        </p:nvPicPr>
        <p:blipFill>
          <a:blip r:embed="rId4"/>
          <a:stretch/>
        </p:blipFill>
        <p:spPr>
          <a:xfrm>
            <a:off x="7666200" y="169920"/>
            <a:ext cx="1763640" cy="1386000"/>
          </a:xfrm>
          <a:prstGeom prst="rect">
            <a:avLst/>
          </a:prstGeom>
          <a:ln w="0">
            <a:noFill/>
          </a:ln>
        </p:spPr>
      </p:pic>
      <p:sp>
        <p:nvSpPr>
          <p:cNvPr id="47" name="Rechteck 132"/>
          <p:cNvSpPr/>
          <p:nvPr/>
        </p:nvSpPr>
        <p:spPr>
          <a:xfrm>
            <a:off x="250920" y="744480"/>
            <a:ext cx="24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92d050"/>
                </a:solidFill>
                <a:latin typeface="Calibri"/>
              </a:rPr>
              <a:t>C5 – Spielfel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hteck 133"/>
          <p:cNvSpPr/>
          <p:nvPr/>
        </p:nvSpPr>
        <p:spPr>
          <a:xfrm>
            <a:off x="250920" y="190440"/>
            <a:ext cx="1892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000000"/>
                </a:solidFill>
                <a:latin typeface="Calibri"/>
              </a:rPr>
              <a:t>i-factory – Informatik begreife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000000"/>
                </a:solidFill>
                <a:latin typeface="Calibri"/>
              </a:rPr>
              <a:t>Arbeitsblatt für SchülerInnen</a:t>
            </a:r>
            <a:br>
              <a:rPr sz="1000"/>
            </a:br>
            <a:r>
              <a:rPr b="0" lang="de-CH" sz="1000" spc="-1" strike="noStrike">
                <a:solidFill>
                  <a:srgbClr val="000000"/>
                </a:solidFill>
                <a:latin typeface="Calibri"/>
              </a:rPr>
              <a:t>5 – 13. Schuljahr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Gerade Verbindung 167"/>
          <p:cNvSpPr/>
          <p:nvPr/>
        </p:nvSpPr>
        <p:spPr>
          <a:xfrm>
            <a:off x="2370240" y="1739880"/>
            <a:ext cx="5416560" cy="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Gerade Verbindung 169"/>
          <p:cNvSpPr/>
          <p:nvPr/>
        </p:nvSpPr>
        <p:spPr>
          <a:xfrm>
            <a:off x="2390760" y="3921120"/>
            <a:ext cx="5383080" cy="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Gerade Verbindung 171"/>
          <p:cNvSpPr/>
          <p:nvPr/>
        </p:nvSpPr>
        <p:spPr>
          <a:xfrm>
            <a:off x="2390760" y="2827440"/>
            <a:ext cx="5383080" cy="14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Gerade Verbindung 173"/>
          <p:cNvSpPr/>
          <p:nvPr/>
        </p:nvSpPr>
        <p:spPr>
          <a:xfrm>
            <a:off x="3459240" y="682560"/>
            <a:ext cx="0" cy="5423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Gerade Verbindung 174"/>
          <p:cNvSpPr/>
          <p:nvPr/>
        </p:nvSpPr>
        <p:spPr>
          <a:xfrm>
            <a:off x="4538520" y="682560"/>
            <a:ext cx="0" cy="5423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Gerade Verbindung 175"/>
          <p:cNvSpPr/>
          <p:nvPr/>
        </p:nvSpPr>
        <p:spPr>
          <a:xfrm>
            <a:off x="6718320" y="682560"/>
            <a:ext cx="0" cy="544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Gerade Verbindung 178"/>
          <p:cNvSpPr/>
          <p:nvPr/>
        </p:nvSpPr>
        <p:spPr>
          <a:xfrm>
            <a:off x="2390760" y="5006880"/>
            <a:ext cx="5388120" cy="22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hteck 15"/>
          <p:cNvSpPr/>
          <p:nvPr/>
        </p:nvSpPr>
        <p:spPr>
          <a:xfrm>
            <a:off x="2376360" y="682560"/>
            <a:ext cx="5397480" cy="54230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1T12:33:04Z</dcterms:created>
  <dc:creator>user</dc:creator>
  <dc:description/>
  <dc:language>en-US</dc:language>
  <cp:lastModifiedBy>user</cp:lastModifiedBy>
  <cp:lastPrinted>2011-04-21T13:16:32Z</cp:lastPrinted>
  <dcterms:modified xsi:type="dcterms:W3CDTF">2011-05-05T12:07:09Z</dcterms:modified>
  <cp:revision>13</cp:revision>
  <dc:subject/>
  <dc:title>PowerPoint-Präsentation</dc:title>
</cp:coreProperties>
</file>