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D513-F6F8-47D2-8614-C562E20BB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BDC0-A005-4804-A1A9-E4EDEC84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500E-1BD5-4B07-B670-C2EDFB285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97ED-5BEE-4DD6-8DAC-822F4578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3FB9-09F5-4044-BC60-5AE838AC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7528-C040-40D8-9BBE-22135B89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66A5-EDC9-469A-A64F-BF3E3B9F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A7AA-1886-4AAB-A28C-23A942B6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13FE-68CA-4D7B-8EFE-1DB5C75A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C4AF-43BF-41EC-9DB0-24D53118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BAFD-836F-4365-A879-ED20CDEE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AB81-768D-49E2-81F8-6B2289C0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78F7-EAF4-447D-8FB8-5340AB470263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hteck 195"/>
          <p:cNvSpPr/>
          <p:nvPr/>
        </p:nvSpPr>
        <p:spPr>
          <a:xfrm>
            <a:off x="7126200" y="2770200"/>
            <a:ext cx="1079640" cy="1079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hteck 196"/>
          <p:cNvSpPr/>
          <p:nvPr/>
        </p:nvSpPr>
        <p:spPr>
          <a:xfrm>
            <a:off x="7126200" y="1684440"/>
            <a:ext cx="1079640" cy="1081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feil nach unten 197"/>
          <p:cNvSpPr/>
          <p:nvPr/>
        </p:nvSpPr>
        <p:spPr>
          <a:xfrm rot="10800000">
            <a:off x="7449840" y="1900080"/>
            <a:ext cx="431640" cy="64800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hteckiger Pfeil 198"/>
          <p:cNvSpPr/>
          <p:nvPr/>
        </p:nvSpPr>
        <p:spPr>
          <a:xfrm>
            <a:off x="7450200" y="2949480"/>
            <a:ext cx="581040" cy="720720"/>
          </a:xfrm>
          <a:custGeom>
            <a:avLst/>
            <a:gdLst/>
            <a:ahLst/>
            <a:rect l="l" t="t" r="r" b="b"/>
            <a:pathLst>
              <a:path w="581649" h="720080">
                <a:moveTo>
                  <a:pt x="0" y="720080"/>
                </a:moveTo>
                <a:lnTo>
                  <a:pt x="0" y="365657"/>
                </a:lnTo>
                <a:cubicBezTo>
                  <a:pt x="0" y="242617"/>
                  <a:pt x="99743" y="142874"/>
                  <a:pt x="222783" y="142874"/>
                </a:cubicBezTo>
                <a:lnTo>
                  <a:pt x="354754" y="142873"/>
                </a:lnTo>
                <a:lnTo>
                  <a:pt x="354754" y="0"/>
                </a:lnTo>
                <a:lnTo>
                  <a:pt x="581649" y="245002"/>
                </a:lnTo>
                <a:lnTo>
                  <a:pt x="354754" y="490004"/>
                </a:lnTo>
                <a:lnTo>
                  <a:pt x="354754" y="347131"/>
                </a:lnTo>
                <a:lnTo>
                  <a:pt x="222783" y="347131"/>
                </a:lnTo>
                <a:cubicBezTo>
                  <a:pt x="212551" y="347131"/>
                  <a:pt x="204257" y="355425"/>
                  <a:pt x="204257" y="365657"/>
                </a:cubicBezTo>
                <a:cubicBezTo>
                  <a:pt x="204257" y="483798"/>
                  <a:pt x="204258" y="601939"/>
                  <a:pt x="204258" y="720080"/>
                </a:cubicBezTo>
                <a:lnTo>
                  <a:pt x="0" y="72008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199"/>
          <p:cNvSpPr/>
          <p:nvPr/>
        </p:nvSpPr>
        <p:spPr>
          <a:xfrm>
            <a:off x="7126200" y="4941720"/>
            <a:ext cx="1079640" cy="1081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hteck 200"/>
          <p:cNvSpPr/>
          <p:nvPr/>
        </p:nvSpPr>
        <p:spPr>
          <a:xfrm>
            <a:off x="7126200" y="3857760"/>
            <a:ext cx="1079640" cy="1079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feil nach unten 201"/>
          <p:cNvSpPr/>
          <p:nvPr/>
        </p:nvSpPr>
        <p:spPr>
          <a:xfrm rot="10800000">
            <a:off x="7449840" y="4073400"/>
            <a:ext cx="431640" cy="64800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iger Pfeil 202"/>
          <p:cNvSpPr/>
          <p:nvPr/>
        </p:nvSpPr>
        <p:spPr>
          <a:xfrm flipH="1">
            <a:off x="7375680" y="5122800"/>
            <a:ext cx="581040" cy="719280"/>
          </a:xfrm>
          <a:custGeom>
            <a:avLst/>
            <a:gdLst/>
            <a:ahLst/>
            <a:rect l="l" t="t" r="r" b="b"/>
            <a:pathLst>
              <a:path w="581649" h="720080">
                <a:moveTo>
                  <a:pt x="0" y="720080"/>
                </a:moveTo>
                <a:lnTo>
                  <a:pt x="0" y="365657"/>
                </a:lnTo>
                <a:cubicBezTo>
                  <a:pt x="0" y="242617"/>
                  <a:pt x="99743" y="142874"/>
                  <a:pt x="222783" y="142874"/>
                </a:cubicBezTo>
                <a:lnTo>
                  <a:pt x="354754" y="142873"/>
                </a:lnTo>
                <a:lnTo>
                  <a:pt x="354754" y="0"/>
                </a:lnTo>
                <a:lnTo>
                  <a:pt x="581649" y="245002"/>
                </a:lnTo>
                <a:lnTo>
                  <a:pt x="354754" y="490004"/>
                </a:lnTo>
                <a:lnTo>
                  <a:pt x="354754" y="347131"/>
                </a:lnTo>
                <a:lnTo>
                  <a:pt x="222783" y="347131"/>
                </a:lnTo>
                <a:cubicBezTo>
                  <a:pt x="212551" y="347131"/>
                  <a:pt x="204257" y="355425"/>
                  <a:pt x="204257" y="365657"/>
                </a:cubicBezTo>
                <a:cubicBezTo>
                  <a:pt x="204257" y="483798"/>
                  <a:pt x="204258" y="601939"/>
                  <a:pt x="204258" y="720080"/>
                </a:cubicBezTo>
                <a:lnTo>
                  <a:pt x="0" y="72008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Gerade Verbindung 203"/>
          <p:cNvSpPr/>
          <p:nvPr/>
        </p:nvSpPr>
        <p:spPr>
          <a:xfrm>
            <a:off x="7126200" y="1665360"/>
            <a:ext cx="0" cy="436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1298520" y="3862440"/>
            <a:ext cx="2622600" cy="2184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1265400" y="1665360"/>
            <a:ext cx="2624040" cy="2184480"/>
          </a:xfrm>
          <a:prstGeom prst="rect">
            <a:avLst/>
          </a:prstGeom>
          <a:ln w="0">
            <a:noFill/>
          </a:ln>
        </p:spPr>
      </p:pic>
      <p:sp>
        <p:nvSpPr>
          <p:cNvPr id="52" name="Rechteck 127"/>
          <p:cNvSpPr/>
          <p:nvPr/>
        </p:nvSpPr>
        <p:spPr>
          <a:xfrm>
            <a:off x="3889440" y="2770200"/>
            <a:ext cx="1079280" cy="1079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06280" y="6259680"/>
          <a:ext cx="9082080" cy="507960"/>
        </p:xfrm>
        <a:graphic>
          <a:graphicData uri="http://schemas.openxmlformats.org/drawingml/2006/table">
            <a:tbl>
              <a:tblPr/>
              <a:tblGrid>
                <a:gridCol w="1285920"/>
                <a:gridCol w="3394080"/>
                <a:gridCol w="3576600"/>
                <a:gridCol w="825480"/>
              </a:tblGrid>
              <a:tr h="50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-factory – Informatik begreifen</a:t>
                      </a:r>
                      <a:br>
                        <a:rPr sz="800"/>
                      </a:b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ww.verkehrshaus.ch/schuldienst</a:t>
                      </a:r>
                      <a:br>
                        <a:rPr sz="800"/>
                      </a:b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kehrshaus der Schwei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r" pos="1963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r" pos="1963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04.20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r" pos="1963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r" pos="1963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ite 1 / 1</a:t>
                      </a:r>
                      <a:br>
                        <a:rPr sz="800"/>
                      </a:b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Objekt 129"/>
          <p:cNvGraphicFramePr/>
          <p:nvPr/>
        </p:nvGraphicFramePr>
        <p:xfrm>
          <a:off x="208080" y="6254640"/>
          <a:ext cx="1085760" cy="37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Objekt 1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080" y="6254640"/>
                    <a:ext cx="10857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1" descr="Logo_PHZ_Schwyz_mv"/>
          <p:cNvPicPr/>
          <p:nvPr/>
        </p:nvPicPr>
        <p:blipFill>
          <a:blip r:embed="rId5"/>
          <a:stretch/>
        </p:blipFill>
        <p:spPr>
          <a:xfrm>
            <a:off x="4635360" y="6259680"/>
            <a:ext cx="1695600" cy="371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logo_verkehrshaus"/>
          <p:cNvPicPr/>
          <p:nvPr/>
        </p:nvPicPr>
        <p:blipFill>
          <a:blip r:embed="rId6"/>
          <a:stretch/>
        </p:blipFill>
        <p:spPr>
          <a:xfrm>
            <a:off x="7666200" y="169920"/>
            <a:ext cx="1763640" cy="1386000"/>
          </a:xfrm>
          <a:prstGeom prst="rect">
            <a:avLst/>
          </a:prstGeom>
          <a:ln w="0">
            <a:noFill/>
          </a:ln>
        </p:spPr>
      </p:pic>
      <p:sp>
        <p:nvSpPr>
          <p:cNvPr id="58" name="Rechteck 132"/>
          <p:cNvSpPr/>
          <p:nvPr/>
        </p:nvSpPr>
        <p:spPr>
          <a:xfrm>
            <a:off x="250920" y="744480"/>
            <a:ext cx="24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92d050"/>
                </a:solidFill>
                <a:latin typeface="Calibri"/>
              </a:rPr>
              <a:t>C4 – Programmbefeh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hteck 133"/>
          <p:cNvSpPr/>
          <p:nvPr/>
        </p:nvSpPr>
        <p:spPr>
          <a:xfrm>
            <a:off x="250920" y="190440"/>
            <a:ext cx="189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000000"/>
                </a:solidFill>
                <a:latin typeface="Calibri"/>
              </a:rPr>
              <a:t>i-factory – Informatik begreif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Calibri"/>
              </a:rPr>
              <a:t>Arbeitsblatt für SchülerInnen</a:t>
            </a:r>
            <a:br>
              <a:rPr sz="1000"/>
            </a:br>
            <a:r>
              <a:rPr b="0" lang="de-CH" sz="1000" spc="-1" strike="noStrike">
                <a:solidFill>
                  <a:srgbClr val="000000"/>
                </a:solidFill>
                <a:latin typeface="Calibri"/>
              </a:rPr>
              <a:t>5. - 13. Schuljah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7"/>
          <a:stretch/>
        </p:blipFill>
        <p:spPr>
          <a:xfrm>
            <a:off x="185760" y="1665360"/>
            <a:ext cx="2622600" cy="2184480"/>
          </a:xfrm>
          <a:prstGeom prst="rect">
            <a:avLst/>
          </a:prstGeom>
          <a:ln w="0">
            <a:noFill/>
          </a:ln>
        </p:spPr>
      </p:pic>
      <p:sp>
        <p:nvSpPr>
          <p:cNvPr id="61" name="Rechteck 135"/>
          <p:cNvSpPr/>
          <p:nvPr/>
        </p:nvSpPr>
        <p:spPr>
          <a:xfrm>
            <a:off x="3889440" y="1684440"/>
            <a:ext cx="1079280" cy="1081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feil nach unten 136"/>
          <p:cNvSpPr/>
          <p:nvPr/>
        </p:nvSpPr>
        <p:spPr>
          <a:xfrm rot="10800000">
            <a:off x="4213080" y="1901520"/>
            <a:ext cx="432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hteckiger Pfeil 137"/>
          <p:cNvSpPr/>
          <p:nvPr/>
        </p:nvSpPr>
        <p:spPr>
          <a:xfrm>
            <a:off x="4213080" y="2949480"/>
            <a:ext cx="581040" cy="720720"/>
          </a:xfrm>
          <a:custGeom>
            <a:avLst/>
            <a:gdLst/>
            <a:ahLst/>
            <a:rect l="l" t="t" r="r" b="b"/>
            <a:pathLst>
              <a:path w="581649" h="720080">
                <a:moveTo>
                  <a:pt x="0" y="720080"/>
                </a:moveTo>
                <a:lnTo>
                  <a:pt x="0" y="365657"/>
                </a:lnTo>
                <a:cubicBezTo>
                  <a:pt x="0" y="242617"/>
                  <a:pt x="99743" y="142874"/>
                  <a:pt x="222783" y="142874"/>
                </a:cubicBezTo>
                <a:lnTo>
                  <a:pt x="354754" y="142873"/>
                </a:lnTo>
                <a:lnTo>
                  <a:pt x="354754" y="0"/>
                </a:lnTo>
                <a:lnTo>
                  <a:pt x="581649" y="245002"/>
                </a:lnTo>
                <a:lnTo>
                  <a:pt x="354754" y="490004"/>
                </a:lnTo>
                <a:lnTo>
                  <a:pt x="354754" y="347131"/>
                </a:lnTo>
                <a:lnTo>
                  <a:pt x="222783" y="347131"/>
                </a:lnTo>
                <a:cubicBezTo>
                  <a:pt x="212551" y="347131"/>
                  <a:pt x="204257" y="355425"/>
                  <a:pt x="204257" y="365657"/>
                </a:cubicBezTo>
                <a:cubicBezTo>
                  <a:pt x="204257" y="483798"/>
                  <a:pt x="204258" y="601939"/>
                  <a:pt x="204258" y="720080"/>
                </a:cubicBezTo>
                <a:lnTo>
                  <a:pt x="0" y="72008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hteck 138"/>
          <p:cNvSpPr/>
          <p:nvPr/>
        </p:nvSpPr>
        <p:spPr>
          <a:xfrm>
            <a:off x="4968720" y="2770200"/>
            <a:ext cx="1079640" cy="1079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hteck 139"/>
          <p:cNvSpPr/>
          <p:nvPr/>
        </p:nvSpPr>
        <p:spPr>
          <a:xfrm>
            <a:off x="4968720" y="1684440"/>
            <a:ext cx="1079640" cy="1081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feil nach unten 140"/>
          <p:cNvSpPr/>
          <p:nvPr/>
        </p:nvSpPr>
        <p:spPr>
          <a:xfrm rot="10800000">
            <a:off x="5292360" y="1901520"/>
            <a:ext cx="431640" cy="64764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hteckiger Pfeil 141"/>
          <p:cNvSpPr/>
          <p:nvPr/>
        </p:nvSpPr>
        <p:spPr>
          <a:xfrm>
            <a:off x="5292720" y="2949480"/>
            <a:ext cx="581040" cy="720720"/>
          </a:xfrm>
          <a:custGeom>
            <a:avLst/>
            <a:gdLst/>
            <a:ahLst/>
            <a:rect l="l" t="t" r="r" b="b"/>
            <a:pathLst>
              <a:path w="581649" h="720080">
                <a:moveTo>
                  <a:pt x="0" y="720080"/>
                </a:moveTo>
                <a:lnTo>
                  <a:pt x="0" y="365657"/>
                </a:lnTo>
                <a:cubicBezTo>
                  <a:pt x="0" y="242617"/>
                  <a:pt x="99743" y="142874"/>
                  <a:pt x="222783" y="142874"/>
                </a:cubicBezTo>
                <a:lnTo>
                  <a:pt x="354754" y="142873"/>
                </a:lnTo>
                <a:lnTo>
                  <a:pt x="354754" y="0"/>
                </a:lnTo>
                <a:lnTo>
                  <a:pt x="581649" y="245002"/>
                </a:lnTo>
                <a:lnTo>
                  <a:pt x="354754" y="490004"/>
                </a:lnTo>
                <a:lnTo>
                  <a:pt x="354754" y="347131"/>
                </a:lnTo>
                <a:lnTo>
                  <a:pt x="222783" y="347131"/>
                </a:lnTo>
                <a:cubicBezTo>
                  <a:pt x="212551" y="347131"/>
                  <a:pt x="204257" y="355425"/>
                  <a:pt x="204257" y="365657"/>
                </a:cubicBezTo>
                <a:cubicBezTo>
                  <a:pt x="204257" y="483798"/>
                  <a:pt x="204258" y="601939"/>
                  <a:pt x="204258" y="720080"/>
                </a:cubicBezTo>
                <a:lnTo>
                  <a:pt x="0" y="72008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142"/>
          <p:cNvSpPr/>
          <p:nvPr/>
        </p:nvSpPr>
        <p:spPr>
          <a:xfrm>
            <a:off x="3889440" y="4941720"/>
            <a:ext cx="1079280" cy="1081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143"/>
          <p:cNvSpPr/>
          <p:nvPr/>
        </p:nvSpPr>
        <p:spPr>
          <a:xfrm>
            <a:off x="3889440" y="3857760"/>
            <a:ext cx="1079280" cy="1079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feil nach unten 144"/>
          <p:cNvSpPr/>
          <p:nvPr/>
        </p:nvSpPr>
        <p:spPr>
          <a:xfrm rot="10800000">
            <a:off x="4213080" y="4073400"/>
            <a:ext cx="432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hteckiger Pfeil 145"/>
          <p:cNvSpPr/>
          <p:nvPr/>
        </p:nvSpPr>
        <p:spPr>
          <a:xfrm flipH="1">
            <a:off x="4138560" y="5122800"/>
            <a:ext cx="581040" cy="719280"/>
          </a:xfrm>
          <a:custGeom>
            <a:avLst/>
            <a:gdLst/>
            <a:ahLst/>
            <a:rect l="l" t="t" r="r" b="b"/>
            <a:pathLst>
              <a:path w="581649" h="720080">
                <a:moveTo>
                  <a:pt x="0" y="720080"/>
                </a:moveTo>
                <a:lnTo>
                  <a:pt x="0" y="365657"/>
                </a:lnTo>
                <a:cubicBezTo>
                  <a:pt x="0" y="242617"/>
                  <a:pt x="99743" y="142874"/>
                  <a:pt x="222783" y="142874"/>
                </a:cubicBezTo>
                <a:lnTo>
                  <a:pt x="354754" y="142873"/>
                </a:lnTo>
                <a:lnTo>
                  <a:pt x="354754" y="0"/>
                </a:lnTo>
                <a:lnTo>
                  <a:pt x="581649" y="245002"/>
                </a:lnTo>
                <a:lnTo>
                  <a:pt x="354754" y="490004"/>
                </a:lnTo>
                <a:lnTo>
                  <a:pt x="354754" y="347131"/>
                </a:lnTo>
                <a:lnTo>
                  <a:pt x="222783" y="347131"/>
                </a:lnTo>
                <a:cubicBezTo>
                  <a:pt x="212551" y="347131"/>
                  <a:pt x="204257" y="355425"/>
                  <a:pt x="204257" y="365657"/>
                </a:cubicBezTo>
                <a:cubicBezTo>
                  <a:pt x="204257" y="483798"/>
                  <a:pt x="204258" y="601939"/>
                  <a:pt x="204258" y="720080"/>
                </a:cubicBezTo>
                <a:lnTo>
                  <a:pt x="0" y="72008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hteck 146"/>
          <p:cNvSpPr/>
          <p:nvPr/>
        </p:nvSpPr>
        <p:spPr>
          <a:xfrm>
            <a:off x="4968720" y="4941720"/>
            <a:ext cx="1079640" cy="1081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hteck 147"/>
          <p:cNvSpPr/>
          <p:nvPr/>
        </p:nvSpPr>
        <p:spPr>
          <a:xfrm>
            <a:off x="4968720" y="3857760"/>
            <a:ext cx="1079640" cy="1079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feil nach unten 148"/>
          <p:cNvSpPr/>
          <p:nvPr/>
        </p:nvSpPr>
        <p:spPr>
          <a:xfrm rot="10800000">
            <a:off x="5292360" y="4073400"/>
            <a:ext cx="431640" cy="64800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hteckiger Pfeil 149"/>
          <p:cNvSpPr/>
          <p:nvPr/>
        </p:nvSpPr>
        <p:spPr>
          <a:xfrm flipH="1">
            <a:off x="5218200" y="5122800"/>
            <a:ext cx="581040" cy="719280"/>
          </a:xfrm>
          <a:custGeom>
            <a:avLst/>
            <a:gdLst/>
            <a:ahLst/>
            <a:rect l="l" t="t" r="r" b="b"/>
            <a:pathLst>
              <a:path w="581649" h="720080">
                <a:moveTo>
                  <a:pt x="0" y="720080"/>
                </a:moveTo>
                <a:lnTo>
                  <a:pt x="0" y="365657"/>
                </a:lnTo>
                <a:cubicBezTo>
                  <a:pt x="0" y="242617"/>
                  <a:pt x="99743" y="142874"/>
                  <a:pt x="222783" y="142874"/>
                </a:cubicBezTo>
                <a:lnTo>
                  <a:pt x="354754" y="142873"/>
                </a:lnTo>
                <a:lnTo>
                  <a:pt x="354754" y="0"/>
                </a:lnTo>
                <a:lnTo>
                  <a:pt x="581649" y="245002"/>
                </a:lnTo>
                <a:lnTo>
                  <a:pt x="354754" y="490004"/>
                </a:lnTo>
                <a:lnTo>
                  <a:pt x="354754" y="347131"/>
                </a:lnTo>
                <a:lnTo>
                  <a:pt x="222783" y="347131"/>
                </a:lnTo>
                <a:cubicBezTo>
                  <a:pt x="212551" y="347131"/>
                  <a:pt x="204257" y="355425"/>
                  <a:pt x="204257" y="365657"/>
                </a:cubicBezTo>
                <a:cubicBezTo>
                  <a:pt x="204257" y="483798"/>
                  <a:pt x="204258" y="601939"/>
                  <a:pt x="204258" y="720080"/>
                </a:cubicBezTo>
                <a:lnTo>
                  <a:pt x="0" y="72008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hteck 150"/>
          <p:cNvSpPr/>
          <p:nvPr/>
        </p:nvSpPr>
        <p:spPr>
          <a:xfrm>
            <a:off x="6048360" y="2770200"/>
            <a:ext cx="1081080" cy="1079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hteck 151"/>
          <p:cNvSpPr/>
          <p:nvPr/>
        </p:nvSpPr>
        <p:spPr>
          <a:xfrm>
            <a:off x="6048360" y="1684440"/>
            <a:ext cx="1081080" cy="1081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feil nach unten 152"/>
          <p:cNvSpPr/>
          <p:nvPr/>
        </p:nvSpPr>
        <p:spPr>
          <a:xfrm rot="10800000">
            <a:off x="6372000" y="1901520"/>
            <a:ext cx="433080" cy="647640"/>
          </a:xfrm>
          <a:prstGeom prst="downArrow">
            <a:avLst>
              <a:gd name="adj1" fmla="val 50000"/>
              <a:gd name="adj2" fmla="val 498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hteckiger Pfeil 153"/>
          <p:cNvSpPr/>
          <p:nvPr/>
        </p:nvSpPr>
        <p:spPr>
          <a:xfrm>
            <a:off x="6372360" y="2949480"/>
            <a:ext cx="582480" cy="720720"/>
          </a:xfrm>
          <a:custGeom>
            <a:avLst/>
            <a:gdLst/>
            <a:ahLst/>
            <a:rect l="l" t="t" r="r" b="b"/>
            <a:pathLst>
              <a:path w="581649" h="720080">
                <a:moveTo>
                  <a:pt x="0" y="720080"/>
                </a:moveTo>
                <a:lnTo>
                  <a:pt x="0" y="365657"/>
                </a:lnTo>
                <a:cubicBezTo>
                  <a:pt x="0" y="242617"/>
                  <a:pt x="99743" y="142874"/>
                  <a:pt x="222783" y="142874"/>
                </a:cubicBezTo>
                <a:lnTo>
                  <a:pt x="354754" y="142873"/>
                </a:lnTo>
                <a:lnTo>
                  <a:pt x="354754" y="0"/>
                </a:lnTo>
                <a:lnTo>
                  <a:pt x="581649" y="245002"/>
                </a:lnTo>
                <a:lnTo>
                  <a:pt x="354754" y="490004"/>
                </a:lnTo>
                <a:lnTo>
                  <a:pt x="354754" y="347131"/>
                </a:lnTo>
                <a:lnTo>
                  <a:pt x="222783" y="347131"/>
                </a:lnTo>
                <a:cubicBezTo>
                  <a:pt x="212551" y="347131"/>
                  <a:pt x="204257" y="355425"/>
                  <a:pt x="204257" y="365657"/>
                </a:cubicBezTo>
                <a:cubicBezTo>
                  <a:pt x="204257" y="483798"/>
                  <a:pt x="204258" y="601939"/>
                  <a:pt x="204258" y="720080"/>
                </a:cubicBezTo>
                <a:lnTo>
                  <a:pt x="0" y="72008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154"/>
          <p:cNvSpPr/>
          <p:nvPr/>
        </p:nvSpPr>
        <p:spPr>
          <a:xfrm>
            <a:off x="6048360" y="4941720"/>
            <a:ext cx="1081080" cy="1081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155"/>
          <p:cNvSpPr/>
          <p:nvPr/>
        </p:nvSpPr>
        <p:spPr>
          <a:xfrm>
            <a:off x="6048360" y="3857760"/>
            <a:ext cx="1081080" cy="1079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feil nach unten 156"/>
          <p:cNvSpPr/>
          <p:nvPr/>
        </p:nvSpPr>
        <p:spPr>
          <a:xfrm rot="10800000">
            <a:off x="6372000" y="4073400"/>
            <a:ext cx="433080" cy="648000"/>
          </a:xfrm>
          <a:prstGeom prst="downArrow">
            <a:avLst>
              <a:gd name="adj1" fmla="val 50000"/>
              <a:gd name="adj2" fmla="val 49875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iger Pfeil 157"/>
          <p:cNvSpPr/>
          <p:nvPr/>
        </p:nvSpPr>
        <p:spPr>
          <a:xfrm flipH="1">
            <a:off x="6296760" y="5122800"/>
            <a:ext cx="582840" cy="719280"/>
          </a:xfrm>
          <a:custGeom>
            <a:avLst/>
            <a:gdLst/>
            <a:ahLst/>
            <a:rect l="l" t="t" r="r" b="b"/>
            <a:pathLst>
              <a:path w="581649" h="720080">
                <a:moveTo>
                  <a:pt x="0" y="720080"/>
                </a:moveTo>
                <a:lnTo>
                  <a:pt x="0" y="365657"/>
                </a:lnTo>
                <a:cubicBezTo>
                  <a:pt x="0" y="242617"/>
                  <a:pt x="99743" y="142874"/>
                  <a:pt x="222783" y="142874"/>
                </a:cubicBezTo>
                <a:lnTo>
                  <a:pt x="354754" y="142873"/>
                </a:lnTo>
                <a:lnTo>
                  <a:pt x="354754" y="0"/>
                </a:lnTo>
                <a:lnTo>
                  <a:pt x="581649" y="245002"/>
                </a:lnTo>
                <a:lnTo>
                  <a:pt x="354754" y="490004"/>
                </a:lnTo>
                <a:lnTo>
                  <a:pt x="354754" y="347131"/>
                </a:lnTo>
                <a:lnTo>
                  <a:pt x="222783" y="347131"/>
                </a:lnTo>
                <a:cubicBezTo>
                  <a:pt x="212551" y="347131"/>
                  <a:pt x="204257" y="355425"/>
                  <a:pt x="204257" y="365657"/>
                </a:cubicBezTo>
                <a:cubicBezTo>
                  <a:pt x="204257" y="483798"/>
                  <a:pt x="204258" y="601939"/>
                  <a:pt x="204258" y="720080"/>
                </a:cubicBezTo>
                <a:lnTo>
                  <a:pt x="0" y="72008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58"/>
          <p:cNvSpPr/>
          <p:nvPr/>
        </p:nvSpPr>
        <p:spPr>
          <a:xfrm>
            <a:off x="8209080" y="2771640"/>
            <a:ext cx="1079280" cy="107964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Calibri"/>
              </a:rPr>
              <a:t>Zi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hteck 159"/>
          <p:cNvSpPr/>
          <p:nvPr/>
        </p:nvSpPr>
        <p:spPr>
          <a:xfrm>
            <a:off x="8209080" y="1685880"/>
            <a:ext cx="1079280" cy="1081080"/>
          </a:xfrm>
          <a:prstGeom prst="rect">
            <a:avLst/>
          </a:prstGeom>
          <a:solidFill>
            <a:srgbClr val="ff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Calibri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hteck 160"/>
          <p:cNvSpPr/>
          <p:nvPr/>
        </p:nvSpPr>
        <p:spPr>
          <a:xfrm>
            <a:off x="8209080" y="4943520"/>
            <a:ext cx="1079280" cy="1081080"/>
          </a:xfrm>
          <a:prstGeom prst="rect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Calibri"/>
              </a:rPr>
              <a:t>Hindern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hteck 161"/>
          <p:cNvSpPr/>
          <p:nvPr/>
        </p:nvSpPr>
        <p:spPr>
          <a:xfrm>
            <a:off x="8209080" y="3859200"/>
            <a:ext cx="1079280" cy="1079640"/>
          </a:xfrm>
          <a:prstGeom prst="rect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Calibri"/>
              </a:rPr>
              <a:t>Hindern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8"/>
          <a:stretch/>
        </p:blipFill>
        <p:spPr>
          <a:xfrm>
            <a:off x="206280" y="3859200"/>
            <a:ext cx="2622600" cy="2182680"/>
          </a:xfrm>
          <a:prstGeom prst="rect">
            <a:avLst/>
          </a:prstGeom>
          <a:ln w="0">
            <a:noFill/>
          </a:ln>
        </p:spPr>
      </p:pic>
      <p:sp>
        <p:nvSpPr>
          <p:cNvPr id="89" name="Abgerundetes Rechteck 163"/>
          <p:cNvSpPr/>
          <p:nvPr/>
        </p:nvSpPr>
        <p:spPr>
          <a:xfrm>
            <a:off x="3417840" y="260280"/>
            <a:ext cx="895320" cy="75564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ffffff"/>
                </a:solidFill>
                <a:latin typeface="Calibri"/>
              </a:rPr>
              <a:t>Vor</a:t>
            </a:r>
            <a:br>
              <a:rPr sz="1200"/>
            </a:br>
            <a:r>
              <a:rPr b="1" lang="de-CH" sz="1200" spc="-1" strike="noStrike">
                <a:solidFill>
                  <a:srgbClr val="ffffff"/>
                </a:solidFill>
                <a:latin typeface="Calibri"/>
              </a:rPr>
              <a:t>Hindern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Abgerundetes Rechteck 164"/>
          <p:cNvSpPr/>
          <p:nvPr/>
        </p:nvSpPr>
        <p:spPr>
          <a:xfrm>
            <a:off x="4313160" y="260280"/>
            <a:ext cx="895320" cy="75564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ffffff"/>
                </a:solidFill>
                <a:latin typeface="Calibri"/>
              </a:rPr>
              <a:t>Vor</a:t>
            </a:r>
            <a:br>
              <a:rPr sz="1200"/>
            </a:br>
            <a:r>
              <a:rPr b="1" lang="de-CH" sz="1200" spc="-1" strike="noStrike">
                <a:solidFill>
                  <a:srgbClr val="ffffff"/>
                </a:solidFill>
                <a:latin typeface="Calibri"/>
              </a:rPr>
              <a:t>Hindern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Abgerundetes Rechteck 165"/>
          <p:cNvSpPr/>
          <p:nvPr/>
        </p:nvSpPr>
        <p:spPr>
          <a:xfrm>
            <a:off x="5208480" y="260280"/>
            <a:ext cx="895320" cy="75564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ffffff"/>
                </a:solidFill>
                <a:latin typeface="Calibri"/>
              </a:rPr>
              <a:t>Auf Zielf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Abgerundetes Rechteck 166"/>
          <p:cNvSpPr/>
          <p:nvPr/>
        </p:nvSpPr>
        <p:spPr>
          <a:xfrm>
            <a:off x="6103800" y="260280"/>
            <a:ext cx="895320" cy="75564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ffffff"/>
                </a:solidFill>
                <a:latin typeface="Calibri"/>
              </a:rPr>
              <a:t>Auf Zielf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Gerade Verbindung 167"/>
          <p:cNvSpPr/>
          <p:nvPr/>
        </p:nvSpPr>
        <p:spPr>
          <a:xfrm>
            <a:off x="216000" y="1665360"/>
            <a:ext cx="9085320" cy="20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Grafik 168" descr=""/>
          <p:cNvPicPr/>
          <p:nvPr/>
        </p:nvPicPr>
        <p:blipFill>
          <a:blip r:embed="rId9"/>
          <a:stretch/>
        </p:blipFill>
        <p:spPr>
          <a:xfrm>
            <a:off x="9356760" y="1555920"/>
            <a:ext cx="393840" cy="236520"/>
          </a:xfrm>
          <a:prstGeom prst="rect">
            <a:avLst/>
          </a:prstGeom>
          <a:ln w="0">
            <a:noFill/>
          </a:ln>
        </p:spPr>
      </p:pic>
      <p:sp>
        <p:nvSpPr>
          <p:cNvPr id="95" name="Gerade Verbindung 169"/>
          <p:cNvSpPr/>
          <p:nvPr/>
        </p:nvSpPr>
        <p:spPr>
          <a:xfrm>
            <a:off x="216000" y="3849840"/>
            <a:ext cx="9069120" cy="1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Gerade Verbindung 170"/>
          <p:cNvSpPr/>
          <p:nvPr/>
        </p:nvSpPr>
        <p:spPr>
          <a:xfrm flipV="1">
            <a:off x="195120" y="6035760"/>
            <a:ext cx="9090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Gerade Verbindung 171"/>
          <p:cNvSpPr/>
          <p:nvPr/>
        </p:nvSpPr>
        <p:spPr>
          <a:xfrm>
            <a:off x="3900600" y="2757600"/>
            <a:ext cx="5384520" cy="1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Gerade Verbindung 172"/>
          <p:cNvSpPr/>
          <p:nvPr/>
        </p:nvSpPr>
        <p:spPr>
          <a:xfrm>
            <a:off x="3889440" y="1665360"/>
            <a:ext cx="0" cy="437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Gerade Verbindung 173"/>
          <p:cNvSpPr/>
          <p:nvPr/>
        </p:nvSpPr>
        <p:spPr>
          <a:xfrm>
            <a:off x="4968720" y="1684440"/>
            <a:ext cx="0" cy="4351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Gerade Verbindung 174"/>
          <p:cNvSpPr/>
          <p:nvPr/>
        </p:nvSpPr>
        <p:spPr>
          <a:xfrm>
            <a:off x="6048360" y="1665360"/>
            <a:ext cx="0" cy="437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Gerade Verbindung 175"/>
          <p:cNvSpPr/>
          <p:nvPr/>
        </p:nvSpPr>
        <p:spPr>
          <a:xfrm>
            <a:off x="8228160" y="1684440"/>
            <a:ext cx="0" cy="437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Gerade Verbindung 176"/>
          <p:cNvSpPr/>
          <p:nvPr/>
        </p:nvSpPr>
        <p:spPr>
          <a:xfrm>
            <a:off x="9285120" y="1684440"/>
            <a:ext cx="0" cy="436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Gerade Verbindung 177"/>
          <p:cNvSpPr/>
          <p:nvPr/>
        </p:nvSpPr>
        <p:spPr>
          <a:xfrm flipH="1">
            <a:off x="212760" y="1647720"/>
            <a:ext cx="1440" cy="438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Gerade Verbindung 178"/>
          <p:cNvSpPr/>
          <p:nvPr/>
        </p:nvSpPr>
        <p:spPr>
          <a:xfrm>
            <a:off x="3900600" y="4937040"/>
            <a:ext cx="5387760" cy="2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Gerade Verbindung 179"/>
          <p:cNvSpPr/>
          <p:nvPr/>
        </p:nvSpPr>
        <p:spPr>
          <a:xfrm>
            <a:off x="2808360" y="1665360"/>
            <a:ext cx="0" cy="1092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Gerade Verbindung 180"/>
          <p:cNvSpPr/>
          <p:nvPr/>
        </p:nvSpPr>
        <p:spPr>
          <a:xfrm>
            <a:off x="1284120" y="2738520"/>
            <a:ext cx="0" cy="1092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Gerade Verbindung 181"/>
          <p:cNvSpPr/>
          <p:nvPr/>
        </p:nvSpPr>
        <p:spPr>
          <a:xfrm>
            <a:off x="2828880" y="3865680"/>
            <a:ext cx="0" cy="1092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Gerade Verbindung 182"/>
          <p:cNvSpPr/>
          <p:nvPr/>
        </p:nvSpPr>
        <p:spPr>
          <a:xfrm>
            <a:off x="1298520" y="4941720"/>
            <a:ext cx="0" cy="109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Gerade Verbindung 183"/>
          <p:cNvSpPr/>
          <p:nvPr/>
        </p:nvSpPr>
        <p:spPr>
          <a:xfrm flipV="1">
            <a:off x="1309680" y="4949640"/>
            <a:ext cx="1519200" cy="4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Gerade Verbindung 184"/>
          <p:cNvSpPr/>
          <p:nvPr/>
        </p:nvSpPr>
        <p:spPr>
          <a:xfrm flipV="1">
            <a:off x="1279440" y="2739600"/>
            <a:ext cx="151920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Grafik 185" descr=""/>
          <p:cNvPicPr/>
          <p:nvPr/>
        </p:nvPicPr>
        <p:blipFill>
          <a:blip r:embed="rId10"/>
          <a:stretch/>
        </p:blipFill>
        <p:spPr>
          <a:xfrm>
            <a:off x="9393120" y="2639880"/>
            <a:ext cx="393840" cy="236520"/>
          </a:xfrm>
          <a:prstGeom prst="rect">
            <a:avLst/>
          </a:prstGeom>
          <a:ln w="0">
            <a:noFill/>
          </a:ln>
        </p:spPr>
      </p:pic>
      <p:pic>
        <p:nvPicPr>
          <p:cNvPr id="112" name="Grafik 186" descr=""/>
          <p:cNvPicPr/>
          <p:nvPr/>
        </p:nvPicPr>
        <p:blipFill>
          <a:blip r:embed="rId11"/>
          <a:stretch/>
        </p:blipFill>
        <p:spPr>
          <a:xfrm>
            <a:off x="9401040" y="3713040"/>
            <a:ext cx="393840" cy="235080"/>
          </a:xfrm>
          <a:prstGeom prst="rect">
            <a:avLst/>
          </a:prstGeom>
          <a:ln w="0">
            <a:noFill/>
          </a:ln>
        </p:spPr>
      </p:pic>
      <p:pic>
        <p:nvPicPr>
          <p:cNvPr id="113" name="Grafik 187" descr=""/>
          <p:cNvPicPr/>
          <p:nvPr/>
        </p:nvPicPr>
        <p:blipFill>
          <a:blip r:embed="rId12"/>
          <a:stretch/>
        </p:blipFill>
        <p:spPr>
          <a:xfrm>
            <a:off x="9401040" y="4819680"/>
            <a:ext cx="393840" cy="236520"/>
          </a:xfrm>
          <a:prstGeom prst="rect">
            <a:avLst/>
          </a:prstGeom>
          <a:ln w="0">
            <a:noFill/>
          </a:ln>
        </p:spPr>
      </p:pic>
      <p:pic>
        <p:nvPicPr>
          <p:cNvPr id="114" name="Grafik 188" descr=""/>
          <p:cNvPicPr/>
          <p:nvPr/>
        </p:nvPicPr>
        <p:blipFill>
          <a:blip r:embed="rId13"/>
          <a:stretch/>
        </p:blipFill>
        <p:spPr>
          <a:xfrm>
            <a:off x="9393120" y="5888160"/>
            <a:ext cx="392400" cy="236520"/>
          </a:xfrm>
          <a:prstGeom prst="rect">
            <a:avLst/>
          </a:prstGeom>
          <a:ln w="0">
            <a:noFill/>
          </a:ln>
        </p:spPr>
      </p:pic>
      <p:pic>
        <p:nvPicPr>
          <p:cNvPr id="115" name="Grafik 189" descr=""/>
          <p:cNvPicPr/>
          <p:nvPr/>
        </p:nvPicPr>
        <p:blipFill>
          <a:blip r:embed="rId14"/>
          <a:stretch/>
        </p:blipFill>
        <p:spPr>
          <a:xfrm>
            <a:off x="131760" y="1239840"/>
            <a:ext cx="236520" cy="393840"/>
          </a:xfrm>
          <a:prstGeom prst="rect">
            <a:avLst/>
          </a:prstGeom>
          <a:ln w="0">
            <a:noFill/>
          </a:ln>
        </p:spPr>
      </p:pic>
      <p:pic>
        <p:nvPicPr>
          <p:cNvPr id="116" name="Grafik 190" descr=""/>
          <p:cNvPicPr/>
          <p:nvPr/>
        </p:nvPicPr>
        <p:blipFill>
          <a:blip r:embed="rId15"/>
          <a:stretch/>
        </p:blipFill>
        <p:spPr>
          <a:xfrm>
            <a:off x="7010280" y="1195560"/>
            <a:ext cx="236520" cy="393480"/>
          </a:xfrm>
          <a:prstGeom prst="rect">
            <a:avLst/>
          </a:prstGeom>
          <a:ln w="0">
            <a:noFill/>
          </a:ln>
        </p:spPr>
      </p:pic>
      <p:pic>
        <p:nvPicPr>
          <p:cNvPr id="117" name="Grafik 191" descr=""/>
          <p:cNvPicPr/>
          <p:nvPr/>
        </p:nvPicPr>
        <p:blipFill>
          <a:blip r:embed="rId16"/>
          <a:stretch/>
        </p:blipFill>
        <p:spPr>
          <a:xfrm>
            <a:off x="5931000" y="1195560"/>
            <a:ext cx="236520" cy="393480"/>
          </a:xfrm>
          <a:prstGeom prst="rect">
            <a:avLst/>
          </a:prstGeom>
          <a:ln w="0">
            <a:noFill/>
          </a:ln>
        </p:spPr>
      </p:pic>
      <p:pic>
        <p:nvPicPr>
          <p:cNvPr id="118" name="Grafik 192" descr=""/>
          <p:cNvPicPr/>
          <p:nvPr/>
        </p:nvPicPr>
        <p:blipFill>
          <a:blip r:embed="rId17"/>
          <a:stretch/>
        </p:blipFill>
        <p:spPr>
          <a:xfrm>
            <a:off x="4851360" y="1195560"/>
            <a:ext cx="235080" cy="393480"/>
          </a:xfrm>
          <a:prstGeom prst="rect">
            <a:avLst/>
          </a:prstGeom>
          <a:ln w="0">
            <a:noFill/>
          </a:ln>
        </p:spPr>
      </p:pic>
      <p:pic>
        <p:nvPicPr>
          <p:cNvPr id="119" name="Grafik 193" descr=""/>
          <p:cNvPicPr/>
          <p:nvPr/>
        </p:nvPicPr>
        <p:blipFill>
          <a:blip r:embed="rId18"/>
          <a:stretch/>
        </p:blipFill>
        <p:spPr>
          <a:xfrm>
            <a:off x="3770280" y="1195560"/>
            <a:ext cx="236520" cy="393480"/>
          </a:xfrm>
          <a:prstGeom prst="rect">
            <a:avLst/>
          </a:prstGeom>
          <a:ln w="0">
            <a:noFill/>
          </a:ln>
        </p:spPr>
      </p:pic>
      <p:pic>
        <p:nvPicPr>
          <p:cNvPr id="120" name="Grafik 194" descr=""/>
          <p:cNvPicPr/>
          <p:nvPr/>
        </p:nvPicPr>
        <p:blipFill>
          <a:blip r:embed="rId19"/>
          <a:stretch/>
        </p:blipFill>
        <p:spPr>
          <a:xfrm>
            <a:off x="2690640" y="1195560"/>
            <a:ext cx="235080" cy="393480"/>
          </a:xfrm>
          <a:prstGeom prst="rect">
            <a:avLst/>
          </a:prstGeom>
          <a:ln w="0">
            <a:noFill/>
          </a:ln>
        </p:spPr>
      </p:pic>
      <p:sp>
        <p:nvSpPr>
          <p:cNvPr id="121" name="Gerade Verbindung 205"/>
          <p:cNvSpPr/>
          <p:nvPr/>
        </p:nvSpPr>
        <p:spPr>
          <a:xfrm>
            <a:off x="7149960" y="1687680"/>
            <a:ext cx="0" cy="433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Grafik 204" descr=""/>
          <p:cNvPicPr/>
          <p:nvPr/>
        </p:nvPicPr>
        <p:blipFill>
          <a:blip r:embed="rId20"/>
          <a:stretch/>
        </p:blipFill>
        <p:spPr>
          <a:xfrm>
            <a:off x="8069400" y="1176480"/>
            <a:ext cx="236520" cy="392040"/>
          </a:xfrm>
          <a:prstGeom prst="rect">
            <a:avLst/>
          </a:prstGeom>
          <a:ln w="0">
            <a:noFill/>
          </a:ln>
        </p:spPr>
      </p:pic>
      <p:sp>
        <p:nvSpPr>
          <p:cNvPr id="123" name="Textfeld 1"/>
          <p:cNvSpPr/>
          <p:nvPr/>
        </p:nvSpPr>
        <p:spPr>
          <a:xfrm>
            <a:off x="1929960" y="1900080"/>
            <a:ext cx="4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92d05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feld 83"/>
          <p:cNvSpPr/>
          <p:nvPr/>
        </p:nvSpPr>
        <p:spPr>
          <a:xfrm>
            <a:off x="1930320" y="299232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92d05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2:33:04Z</dcterms:created>
  <dc:creator>user</dc:creator>
  <dc:description/>
  <dc:language>en-US</dc:language>
  <cp:lastModifiedBy>user</cp:lastModifiedBy>
  <cp:lastPrinted>2011-04-21T13:16:32Z</cp:lastPrinted>
  <dcterms:modified xsi:type="dcterms:W3CDTF">2011-04-28T14:25:55Z</dcterms:modified>
  <cp:revision>13</cp:revision>
  <dc:subject/>
  <dc:title>PowerPoint-Präsentation</dc:title>
</cp:coreProperties>
</file>